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B94-6347-410A-8E2F-4A354E61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57C0-F936-4EF2-8927-285F21E8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7E60-4635-46C3-A666-1B1BD121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7E6-4F48-428F-AD46-9B98FFD4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142-BD22-4062-B6B6-B43AB46E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F5C-5DFB-403A-87DB-66732B47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7A0-7D2C-40CC-9EFC-F8EE95AC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4EA-D97E-4E96-9068-2E9F091D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D7E-2016-4A92-A196-724EFD17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5CA-DF1E-4DB8-93AF-2094AD6F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5E7-62E3-442F-9E53-16D49C85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D5E-2AEB-45EC-A88A-C49429D1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A32C-8C28-4A77-BDC6-865C28EB0FE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 to think about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any of you moved to a new community, switched schools, or experienced a major change in your lives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ould it be positive or nega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nal Expansionism and Mig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79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ng Americans”  link territorial growth to other material achiev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echnological innovation—e.g. telegrap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ransportation improve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rowth of trad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ss immigr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overy of California gold (1849) inspires transcontinental pro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ilroads begin displacing cana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ss production, the division of labor makes production more effici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ory system emerges (rise of union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rms become mechanized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DIVI7233265"/>
          <p:cNvPicPr/>
          <p:nvPr/>
        </p:nvPicPr>
        <p:blipFill>
          <a:blip r:embed="rId2"/>
          <a:stretch/>
        </p:blipFill>
        <p:spPr>
          <a:xfrm>
            <a:off x="457200" y="1676520"/>
            <a:ext cx="418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migration to the United States, 1820–186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DIVI243"/>
          <p:cNvPicPr/>
          <p:nvPr/>
        </p:nvPicPr>
        <p:blipFill>
          <a:blip r:embed="rId2"/>
          <a:stretch/>
        </p:blipFill>
        <p:spPr>
          <a:xfrm>
            <a:off x="2286000" y="1828800"/>
            <a:ext cx="4448160" cy="4657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533520" y="1752480"/>
            <a:ext cx="824688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problems might come about from poor European immigrants coming into the United Sta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problems might come about from the Industrialization of the United Sta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GE OF EXPANSIO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rderlands of the 1830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s begin settling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egon territory (joint U.S., English clai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Mexico territory, California, and Texas (owned by Mexico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fest Destiny” becomes a slogan of those believing the U.S. divinely ordained to encompass Mexico and Canada (John O’ Sullivan 184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to ponder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has more claim to a piece of land-an absentee owner or a person who takes care of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exas R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76520"/>
            <a:ext cx="4040280" cy="44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820s: Americans encouraged to move into Texas but they never fully accepted Mexican rules (slavery and Catholicis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835: Armed rebellion breaks and Texans declare independen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836 Mexican forces defeated and forced to sign a treaty recognizing Tex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ckson refuses to annex Tex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DIVI7233256"/>
          <p:cNvPicPr/>
          <p:nvPr/>
        </p:nvPicPr>
        <p:blipFill>
          <a:blip r:embed="rId2"/>
          <a:srcRect l="-8444" t="0" r="-8444" b="0"/>
          <a:stretch/>
        </p:blipFill>
        <p:spPr>
          <a:xfrm>
            <a:off x="4645080" y="1676520"/>
            <a:ext cx="4041720" cy="44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ails of Trade and Settl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30’s-1840’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60020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ral trade routes are created to get into western territor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nta Fe Trail closed to U.S. because Tex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egon Trail for settlers to the Oregon coun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mon trail (Mormons settle in Utah b/c of religious persecution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egon settlers demand an end to joint U.S.-British occup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DIVI7233258"/>
          <p:cNvPicPr/>
          <p:nvPr/>
        </p:nvPicPr>
        <p:blipFill>
          <a:blip r:embed="rId2"/>
          <a:stretch/>
        </p:blipFill>
        <p:spPr>
          <a:xfrm>
            <a:off x="1676520" y="3552840"/>
            <a:ext cx="548640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iberty Par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ings the Election of 184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DIVI7233TB1302"/>
          <p:cNvPicPr/>
          <p:nvPr/>
        </p:nvPicPr>
        <p:blipFill>
          <a:blip r:embed="rId2"/>
          <a:srcRect l="0" t="22220" r="0" b="4441"/>
          <a:stretch/>
        </p:blipFill>
        <p:spPr>
          <a:xfrm>
            <a:off x="380880" y="2514600"/>
            <a:ext cx="8344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mes K. Polk-Democrati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1845-1849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estic Poli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k runs on expansionist plat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as annexed by joint resolution shortly before Polk inaugu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mont Provis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ifest Destiny ultimately limited by racism and slavery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ign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723920" y="2133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4’ 40” or fight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846 Polk tells British that joint occupation no longer accept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gland prepares for war but decides to compromise with division of Oregon along 49</a:t>
            </a:r>
            <a:r>
              <a:rPr b="0" lang="en-US" sz="17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parallel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846 Mexican-American War (Wanted New Mexico and California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48 U.S.  wins war/Treaty of Guadalupe Hidalg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io Grande becomes southern bord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ew Mexico, California ceded to U.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.S. pays Mexico $15 mill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DIVI7233260"/>
          <p:cNvPicPr/>
          <p:nvPr/>
        </p:nvPicPr>
        <p:blipFill>
          <a:blip r:embed="rId2"/>
          <a:stretch/>
        </p:blipFill>
        <p:spPr>
          <a:xfrm>
            <a:off x="228600" y="1752480"/>
            <a:ext cx="4213080" cy="441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DIVI7233263"/>
          <p:cNvPicPr/>
          <p:nvPr/>
        </p:nvPicPr>
        <p:blipFill>
          <a:blip r:embed="rId3"/>
          <a:stretch/>
        </p:blipFill>
        <p:spPr>
          <a:xfrm>
            <a:off x="228600" y="2209680"/>
            <a:ext cx="4451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DIVI7233TB1303"/>
          <p:cNvPicPr/>
          <p:nvPr/>
        </p:nvPicPr>
        <p:blipFill>
          <a:blip r:embed="rId2"/>
          <a:stretch/>
        </p:blipFill>
        <p:spPr>
          <a:xfrm>
            <a:off x="1600200" y="5335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6:05:37Z</dcterms:created>
  <dc:creator>CMU</dc:creator>
  <dc:description/>
  <cp:keywords/>
  <dc:language>en-US</dc:language>
  <cp:lastModifiedBy>Thaddeus J. Brooks</cp:lastModifiedBy>
  <cp:lastPrinted>2012-10-11T23:32:59Z</cp:lastPrinted>
  <dcterms:modified xsi:type="dcterms:W3CDTF">2013-10-28T14:10:19Z</dcterms:modified>
  <cp:revision>28</cp:revision>
  <dc:subject/>
  <dc:title>CHAPTER 12 AN AGE OF EXPANSIONISM</dc:title>
</cp:coreProperties>
</file>